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6ED-5E61-4B10-B3CC-AA42CB81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395-7D34-408E-AF78-D0D8599E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362CD-4424-4D80-9697-989D0F64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60E16-532E-48B6-9555-805CBF43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3D7CC-FF0D-4D80-BAB2-C5F65286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3B505-1A50-4F5B-8434-F1F2E317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851A4-933D-4805-85B1-7BA1686F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0D3ED-4D1D-41BD-9644-05DBC11D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A4829-73E6-4EB5-B623-616CA597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D7962-8B42-4C52-8742-19A6FA9D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ACD75-02CE-49BE-BD9C-E26ADF24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64FEE-356C-48CC-BDE2-4B73505D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F19-6FF4-4059-AE92-3FE922A2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1BBB7-6D9D-4F6A-B55E-14B707BF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04BE4-DC15-4610-BA5C-70F159DC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85D80-58F5-4361-B6ED-9BE27B74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C3B59-8533-47EC-A9E5-75BB99E3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A5816-4C40-486A-8FF7-AD96F244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27936-6EE1-4650-95C5-0F912BDF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0F027-BA99-4AF2-B8C9-311D9F3D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B2AB4-7867-4171-B478-BDEE9E2D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2365F-7644-4C2B-8312-FCEC58B8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60957-5D3E-4E34-8166-3BCDDD8C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CEB-A0DC-4BBD-8698-E0115CA9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0EDFA-820E-4665-A998-71BF893F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854B7-3DAA-4E0C-9CDE-6FCCF458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14FAC-54AE-4C85-88E4-749DEA78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1E79A-FFEE-4DE7-B1A8-DF1D4CC6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042D4-898C-4B37-8D5F-E678A435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0CEC8-302D-4D4F-8B18-ECA1F352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1DAAA-7D54-435F-AE51-FA339F57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A1504-977E-4800-AD3B-EAFEDF1D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7A5CA-3ECF-472F-9E22-3E7B81F5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45EAF-EF31-46E2-9679-2F072AB9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ED18-BB0A-4C9D-926E-B1452A4A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093DD-62E8-4097-B5AF-B4F149FF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2286E-A57A-4385-AB29-6642A99E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FD073-6DAE-4778-9A16-4C577EB7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7874C-28BF-4D23-9586-BAD124A1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6FFDF-D36A-46FD-B449-67605232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8ABD6-7704-4875-A33F-CCFEA3BB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4E35F-1D48-4DA0-BB7A-34FB9BD8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A9A44-5E6C-4FF3-B9C2-56BFE0D2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84E04-CED1-4B77-B9D6-69B5C5C7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987D5-A1BA-4CF7-8827-23775FEC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92E1-1C10-4550-8161-DF07F645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B0D93-60FF-4D1A-8D76-63A4E7E6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0026B-2471-482C-BF73-16BAB0BA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18D9C-3554-4495-9CF6-2F17F306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933D9-5008-46EC-93AC-0A80993C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78140-91EC-44F5-A48D-78CD7F90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86260-AEB7-4452-875E-350A5A59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8C884-7609-4F2F-AAE3-51D3AA21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F001F-AB40-426C-BA14-AF6BC1CC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A7989-7B20-413D-B54F-02F35213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CB1B7-0D1E-457F-B1CF-99D702FE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2BD1-5281-4C7A-8BF9-966A8C2F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5FA32-2D51-467D-801F-F3433875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FB749-C3F8-4B9C-9FEC-10AE9F7B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23EAD-C4DC-4A6D-BCED-D61F2D6C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06FD9-0433-4531-8EBD-7694D0FF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399D1-5F33-4656-9497-3E1EF286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52C46-B1D6-4813-BF92-AADD413A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661C5-D5BE-4ED7-A294-3EE0B43C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3336ED-5B80-4A85-A950-C99BDD4D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098933-A65E-439B-996F-9EAEF764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FA939-E010-4EC2-AB53-7A5FAF5E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0260-D530-4BEA-B44D-7621FA9C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0C816D-5515-4164-B8AF-859850BC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F9A7AC-57E9-4F02-A109-9794E609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CEDE31-9CA6-44A0-96DA-0544653B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8F6ED2-E9FC-45D6-A18C-E3A8564A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1AA89-EBB9-4293-A975-F6545BA3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911FF-FB55-4AE7-B169-747FA59A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C987E-BF32-4849-9E2A-4DD9D07E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57F2A7-B730-49A2-A568-CC0097B4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5E539-2302-4005-824C-D0E8CE50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620A-DAA2-4D8A-B106-FEC5585C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185B-F0EB-442C-A926-E771205D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021E-56BC-4871-BDF9-52DDDD17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38BC-BE14-4ABF-9D66-CD35DE5B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5149-3ECF-4BB7-8C73-9095FBCB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DC93-013A-4F63-8A26-B28E4A30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9F1B-1627-44E5-BA49-B69673DC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83A2-FDF2-4DC0-828E-64B6829D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9FDE-0D38-46AA-AE4D-D7D834D3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6C6B1-7990-4192-9A3D-8797E200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3AD74-B68B-4241-855E-02A1EB12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FA315-B966-453A-BB0E-847C3F76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2311A-9CF4-4585-BC65-FF41818F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3998E-A650-42B4-A20A-ADD5EBAD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B8A9-9ABF-441F-A754-7512B2B4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0FE13-0C62-489C-9FD5-03CEAE2D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91DF0-7450-4DAA-B2B7-1C756EE4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AC0FC-C7AA-45A0-8E6E-86670514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6B8E4-283F-42DA-AE2B-3CB8760D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77EA5-A65F-47E6-ADB5-A0EDCB47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FF72F-0368-4EEA-A465-2332E2B2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7C434-671B-4928-BCC2-33AA2E5F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9C4EE-9549-4747-85DF-F2ED5417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9DF37-CDDB-478B-8FAB-71AEFF82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2B44A-3958-4172-8BFD-562CEA7D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993-8178-4172-8124-AF790615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61DD9-E8CA-415D-AF90-AB30AC97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75C89-A459-4390-87DB-0AAA1C6A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71A95-E002-4A19-AA53-4E2898A7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BD702-39C9-4341-8816-51F6F0D3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8FFD4-5125-4AF4-942E-DE0D1F86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B9A80-99F8-47D0-89A6-84B9FAAE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0CFC0-2E2F-404B-8199-F7E234E9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AFC96-5D88-4B07-A6C9-D3ED0F52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B64FC-DE0A-4C0F-9705-A7DD23E4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1CC3E-01CE-40F0-97FB-D6496BA8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12E-E2D6-42D6-9DD7-6C344037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E2C33-A96D-4345-84CE-8F27935F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8BE1D-F07B-41DA-AF46-74A48AF8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C64BB-6F06-4092-B886-2315B6EF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AE394-13D0-4F42-B926-462628DF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DF13A-F5A8-438C-AFBD-D9072D5B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20B89-F153-4B11-BB48-76336E09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7F409-5F8F-459A-98EA-16176F3A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12A67-65B5-44E7-B8D0-B1CD21DD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F64C5-2C61-49E3-A517-2A019716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6A23D-5E95-4717-A2C8-58638B20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01F-EEE2-494F-8F63-420960F5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B7D32-F07E-4385-B9A6-5B423089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66B5B-3D97-4F6F-841F-6A88BB08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3DB25-D515-4E39-8573-648FEB71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B9B5B-E07C-458F-BFC6-95E5C9B0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2EED3-1ABD-496D-86B3-923C68BC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4FEC9-3929-48C3-91CF-54778F93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5B9A1-24CC-4FC0-9A00-6C78A50E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D91D2-07DC-4081-B923-797DDEFB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324DE-B743-4D72-AF1F-97A950F7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1EBBB-69BC-4C6C-8818-400E71CA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23C-6F06-4960-867C-F7FBEBFA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AD56D-AC51-469A-B510-E2847E86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2BED6-D237-4F7A-A090-71266409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4A332-5759-4E6A-8BB8-B51C932A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B081E-88E6-4C9B-A580-1FD6D17C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B2154-5001-45B3-9A4A-B8731256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C3D08-163A-4FD1-B897-DD8F8C90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2CA2F-E854-4B21-8BD8-529625D4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14767-EDDD-4F74-9765-7AF5CA44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6C4FD-DD2A-438E-90B8-4B0152D0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8C4FA-A3AD-4DF2-B3AE-51217E2B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208-FDEC-4B66-A037-7FFF76B8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A2885-4287-44FB-B771-E21827F0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D6124-D96A-461B-88A9-F9ED348D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90C08-30CC-40A8-B04E-47FC7F2F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D3351-F65A-4948-8354-D3B8F0FE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3819E-6493-4AC6-9CC4-6518A87C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BECB8-4D0F-4217-9977-11474A7C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D46D4-7BBC-404D-A8D2-38972CA0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A0ACB-C95C-42A6-9D4D-C0174BE8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4DC0A-2532-4609-8DBB-BDEDE84A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F3422-5998-4BD2-A4DE-BF8C5432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15E-35A7-414C-8317-2BA1089A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EF381-1DB1-484F-85D6-32BC626B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6A878-147A-47C1-A712-ECD38CC2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4C726-804B-4618-AECA-E1EF2E7F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30C1E-F813-4A3C-8F88-84C55A49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37AF7-241D-4A19-BD46-F844DF27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09D87-4888-4170-A755-EADF4B5A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8763C-418E-443C-A1EB-7F437A5D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68848-B5E6-41C6-9366-6E120F4D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E0B45-7965-4497-94BB-38CCA577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AA6EB-60C4-4BE2-9647-B18C104B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32ED-21BC-40B5-88CE-D4300B8B325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7B26-092B-4613-B785-B218586B3A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8F5A-A333-439E-A246-98FC4D20FE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8F26-ADE8-411D-B7E2-FB85CC936F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E3E1-AAEE-4B60-8D73-6795E9413D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36C1-5C53-448C-8F80-D99C7676F1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6551-F533-419F-97F8-6CADEEAA08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1D7D-FB41-4BDB-A026-FD442C3C0B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C79C-9789-4BE9-81A4-30CCB34360C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CB43-36B6-469E-A8B1-494EE218CD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9C24-1BA6-487C-A1A8-71D9BACA24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49F7-C5B3-42B6-89FC-DF1B1C4E1E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FE9F-EC7D-42FD-9445-688640FAF3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1C10-6B41-4ED6-BFD2-CC8E8AA9C4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7665-ECF0-4B2A-9387-36F57F4A49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2E82-1E7B-4A53-B704-72DD2DD533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4000" y="2709720"/>
            <a:ext cx="8459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初定专业技术资格网报流程与要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482840" y="479736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九、工作业绩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内容占位符 4" descr=""/>
          <p:cNvPicPr/>
          <p:nvPr/>
        </p:nvPicPr>
        <p:blipFill>
          <a:blip r:embed="rId1"/>
          <a:stretch/>
        </p:blipFill>
        <p:spPr>
          <a:xfrm>
            <a:off x="554040" y="1539720"/>
            <a:ext cx="8132760" cy="1609920"/>
          </a:xfrm>
          <a:prstGeom prst="rect">
            <a:avLst/>
          </a:prstGeom>
          <a:ln w="0">
            <a:noFill/>
          </a:ln>
        </p:spPr>
      </p:pic>
      <p:sp>
        <p:nvSpPr>
          <p:cNvPr id="624" name="文本框 5"/>
          <p:cNvSpPr/>
          <p:nvPr/>
        </p:nvSpPr>
        <p:spPr>
          <a:xfrm>
            <a:off x="660240" y="33559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业绩填写本人参加教学研究工作材料（论文、课题等），填写基本信息并完成佐证材料上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、工作总结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内容占位符 4" descr=""/>
          <p:cNvPicPr/>
          <p:nvPr/>
        </p:nvPicPr>
        <p:blipFill>
          <a:blip r:embed="rId1"/>
          <a:stretch/>
        </p:blipFill>
        <p:spPr>
          <a:xfrm>
            <a:off x="628560" y="1214280"/>
            <a:ext cx="8218440" cy="3044880"/>
          </a:xfrm>
          <a:prstGeom prst="rect">
            <a:avLst/>
          </a:prstGeom>
          <a:ln w="0">
            <a:noFill/>
          </a:ln>
        </p:spPr>
      </p:pic>
      <p:sp>
        <p:nvSpPr>
          <p:cNvPr id="628" name="文本框 5"/>
          <p:cNvSpPr/>
          <p:nvPr/>
        </p:nvSpPr>
        <p:spPr>
          <a:xfrm>
            <a:off x="596880" y="4321080"/>
            <a:ext cx="83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总结处填写个人工作总结，注意字数要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一、年度考核信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内容占位符 4" descr=""/>
          <p:cNvPicPr/>
          <p:nvPr/>
        </p:nvPicPr>
        <p:blipFill>
          <a:blip r:embed="rId1"/>
          <a:stretch/>
        </p:blipFill>
        <p:spPr>
          <a:xfrm>
            <a:off x="125280" y="1825560"/>
            <a:ext cx="8894880" cy="1490760"/>
          </a:xfrm>
          <a:prstGeom prst="rect">
            <a:avLst/>
          </a:prstGeom>
          <a:ln w="0">
            <a:noFill/>
          </a:ln>
        </p:spPr>
      </p:pic>
      <p:sp>
        <p:nvSpPr>
          <p:cNvPr id="631" name="文本框 6"/>
          <p:cNvSpPr/>
          <p:nvPr/>
        </p:nvSpPr>
        <p:spPr>
          <a:xfrm>
            <a:off x="490680" y="3611520"/>
            <a:ext cx="816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度考核信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0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编内录用新教师填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新教师见习期满转正定级考核表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相关信息，并上传考核表原件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0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及之前录用聘用制（员额制）教师上传新教师试用期考核表或年度考核表（有一年填一年），复印件需单位盖章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教师上传单位年度考核表，复印件需单位盖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二、社保缴费证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818208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下载江苏智慧人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点击“服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选择“社会保险”—“个人权益单”—“江苏社会保险权益记录单（参保人员）”—起始年月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2105-202205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保存为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上传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三、单位公示及结果报告证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内容占位符 4" descr=""/>
          <p:cNvPicPr/>
          <p:nvPr/>
        </p:nvPicPr>
        <p:blipFill>
          <a:blip r:embed="rId1"/>
          <a:stretch/>
        </p:blipFill>
        <p:spPr>
          <a:xfrm>
            <a:off x="368280" y="1413000"/>
            <a:ext cx="8406000" cy="1825560"/>
          </a:xfrm>
          <a:prstGeom prst="rect">
            <a:avLst/>
          </a:prstGeom>
          <a:ln w="0">
            <a:noFill/>
          </a:ln>
        </p:spPr>
      </p:pic>
      <p:sp>
        <p:nvSpPr>
          <p:cNvPr id="637" name="文本框 5"/>
          <p:cNvSpPr/>
          <p:nvPr/>
        </p:nvSpPr>
        <p:spPr>
          <a:xfrm>
            <a:off x="577800" y="3502080"/>
            <a:ext cx="78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将以上两项模板下载，单位填写意见盖章后，完成材料上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四、其他材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8464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他材料无需填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上所有信息填写完成，核实无误后，点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申报表预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再次核实无误后，点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进入教育行政部门审核环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图片 4" descr=""/>
          <p:cNvPicPr/>
          <p:nvPr/>
        </p:nvPicPr>
        <p:blipFill>
          <a:blip r:embed="rId1"/>
          <a:stretch/>
        </p:blipFill>
        <p:spPr>
          <a:xfrm>
            <a:off x="1409760" y="3692520"/>
            <a:ext cx="63244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五、相关说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7"/>
          <p:cNvSpPr/>
          <p:nvPr/>
        </p:nvSpPr>
        <p:spPr>
          <a:xfrm>
            <a:off x="563400" y="1349280"/>
            <a:ext cx="843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中旬开始申报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截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网上申报信息审核完毕后，请局属各单位职称负责同志注意，初定及申报人员都必须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天内完成申报表的打印、盖章、上交工作。申报表一式两份，双面打印、盖章，单位统一交区教育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室审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系统登录与注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6200" y="1413000"/>
            <a:ext cx="826956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统网址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ttps://rs.jshrss.jiangsu.gov.cn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浏览器极速模式或谷歌浏览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图片 4" descr=""/>
          <p:cNvPicPr/>
          <p:nvPr/>
        </p:nvPicPr>
        <p:blipFill>
          <a:blip r:embed="rId1"/>
          <a:stretch/>
        </p:blipFill>
        <p:spPr>
          <a:xfrm>
            <a:off x="1106640" y="2281320"/>
            <a:ext cx="3027240" cy="360828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7" descr=""/>
          <p:cNvPicPr/>
          <p:nvPr/>
        </p:nvPicPr>
        <p:blipFill>
          <a:blip r:embed="rId2"/>
          <a:stretch/>
        </p:blipFill>
        <p:spPr>
          <a:xfrm>
            <a:off x="5253120" y="2297160"/>
            <a:ext cx="324648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申报入口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5920" y="1722240"/>
            <a:ext cx="3425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册成功后，即可登录，然后在主页面点“个人办事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才人事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专业技术人员管理服务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职称初定申报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申报”，进入申报界面，然后按个人实际情况进行网上申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图片 10" descr=""/>
          <p:cNvPicPr/>
          <p:nvPr/>
        </p:nvPicPr>
        <p:blipFill>
          <a:blip r:embed="rId1"/>
          <a:stretch/>
        </p:blipFill>
        <p:spPr>
          <a:xfrm>
            <a:off x="3817800" y="1695600"/>
            <a:ext cx="522612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基本信息填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图片 4" descr="1"/>
          <p:cNvPicPr/>
          <p:nvPr/>
        </p:nvPicPr>
        <p:blipFill>
          <a:blip r:embed="rId1"/>
          <a:srcRect l="0" t="76191" r="347" b="0"/>
          <a:stretch/>
        </p:blipFill>
        <p:spPr>
          <a:xfrm>
            <a:off x="-196920" y="5570640"/>
            <a:ext cx="9507600" cy="121752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1" descr=""/>
          <p:cNvPicPr/>
          <p:nvPr/>
        </p:nvPicPr>
        <p:blipFill>
          <a:blip r:embed="rId2"/>
          <a:srcRect l="3759" t="245" r="1216" b="913"/>
          <a:stretch/>
        </p:blipFill>
        <p:spPr>
          <a:xfrm>
            <a:off x="-155520" y="1222200"/>
            <a:ext cx="9477360" cy="4413600"/>
          </a:xfrm>
          <a:prstGeom prst="rect">
            <a:avLst/>
          </a:prstGeom>
          <a:ln w="0">
            <a:noFill/>
          </a:ln>
        </p:spPr>
      </p:pic>
      <p:sp>
        <p:nvSpPr>
          <p:cNvPr id="587" name="椭圆 2"/>
          <p:cNvSpPr/>
          <p:nvPr/>
        </p:nvSpPr>
        <p:spPr>
          <a:xfrm>
            <a:off x="0" y="4359240"/>
            <a:ext cx="2444760" cy="36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3"/>
          <p:cNvSpPr/>
          <p:nvPr/>
        </p:nvSpPr>
        <p:spPr>
          <a:xfrm>
            <a:off x="0" y="4930920"/>
            <a:ext cx="2444760" cy="36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4"/>
          <p:cNvSpPr/>
          <p:nvPr/>
        </p:nvSpPr>
        <p:spPr>
          <a:xfrm>
            <a:off x="563400" y="2405160"/>
            <a:ext cx="8134560" cy="919080"/>
          </a:xfrm>
          <a:prstGeom prst="rect">
            <a:avLst/>
          </a:prstGeom>
          <a:solidFill>
            <a:srgbClr val="a6a6a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4"/>
          <p:cNvSpPr/>
          <p:nvPr/>
        </p:nvSpPr>
        <p:spPr>
          <a:xfrm>
            <a:off x="6434280" y="4930920"/>
            <a:ext cx="2444760" cy="36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5"/>
          <p:cNvSpPr/>
          <p:nvPr/>
        </p:nvSpPr>
        <p:spPr>
          <a:xfrm>
            <a:off x="709560" y="2451240"/>
            <a:ext cx="784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工作单位性质民办幼儿园改成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民办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，行政主管部门改成常州市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天宁区教育局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，报送受理部门改成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天宁区职称办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。填写完整无误后（幼儿园教师现从事专业，申报专业选择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幼儿园教师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），点击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暂存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，点击左侧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学历学位信息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，进入下一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5"/>
          <p:cNvSpPr/>
          <p:nvPr/>
        </p:nvSpPr>
        <p:spPr>
          <a:xfrm>
            <a:off x="2587680" y="6423120"/>
            <a:ext cx="1539720" cy="28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6"/>
          <p:cNvSpPr/>
          <p:nvPr/>
        </p:nvSpPr>
        <p:spPr>
          <a:xfrm>
            <a:off x="2635200" y="64450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选天宁区职称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7"/>
          <p:cNvSpPr/>
          <p:nvPr/>
        </p:nvSpPr>
        <p:spPr>
          <a:xfrm>
            <a:off x="934920" y="6454800"/>
            <a:ext cx="1335240" cy="29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8"/>
          <p:cNvSpPr/>
          <p:nvPr/>
        </p:nvSpPr>
        <p:spPr>
          <a:xfrm>
            <a:off x="934920" y="648000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天宁区职称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0"/>
          <p:cNvSpPr/>
          <p:nvPr/>
        </p:nvSpPr>
        <p:spPr>
          <a:xfrm>
            <a:off x="7977240" y="3416400"/>
            <a:ext cx="1333440" cy="29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11"/>
          <p:cNvSpPr/>
          <p:nvPr/>
        </p:nvSpPr>
        <p:spPr>
          <a:xfrm>
            <a:off x="7977240" y="4359240"/>
            <a:ext cx="133344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2"/>
          <p:cNvSpPr/>
          <p:nvPr/>
        </p:nvSpPr>
        <p:spPr>
          <a:xfrm>
            <a:off x="7243920" y="1384200"/>
            <a:ext cx="733320" cy="8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学历学位信息填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内容占位符 6" descr=""/>
          <p:cNvPicPr/>
          <p:nvPr/>
        </p:nvPicPr>
        <p:blipFill>
          <a:blip r:embed="rId1"/>
          <a:stretch/>
        </p:blipFill>
        <p:spPr>
          <a:xfrm>
            <a:off x="295200" y="1293840"/>
            <a:ext cx="8663040" cy="106668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7" descr=""/>
          <p:cNvPicPr/>
          <p:nvPr/>
        </p:nvPicPr>
        <p:blipFill>
          <a:blip r:embed="rId2"/>
          <a:stretch/>
        </p:blipFill>
        <p:spPr>
          <a:xfrm>
            <a:off x="388800" y="2360520"/>
            <a:ext cx="8570880" cy="230364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8" descr=""/>
          <p:cNvPicPr/>
          <p:nvPr/>
        </p:nvPicPr>
        <p:blipFill>
          <a:blip r:embed="rId3"/>
          <a:stretch/>
        </p:blipFill>
        <p:spPr>
          <a:xfrm>
            <a:off x="44280" y="4869000"/>
            <a:ext cx="8790120" cy="1062000"/>
          </a:xfrm>
          <a:prstGeom prst="rect">
            <a:avLst/>
          </a:prstGeom>
          <a:ln w="0">
            <a:noFill/>
          </a:ln>
        </p:spPr>
      </p:pic>
      <p:sp>
        <p:nvSpPr>
          <p:cNvPr id="604" name="文本框 9"/>
          <p:cNvSpPr/>
          <p:nvPr/>
        </p:nvSpPr>
        <p:spPr>
          <a:xfrm>
            <a:off x="515880" y="6037200"/>
            <a:ext cx="83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，完成基本信息填写后保存，上传学历、学位证书（高中以后、扫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，点击暂存，进入下一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业技术资格填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、专业技术资格（职业资格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内容占位符 4" descr=""/>
          <p:cNvPicPr/>
          <p:nvPr/>
        </p:nvPicPr>
        <p:blipFill>
          <a:blip r:embed="rId1"/>
          <a:stretch/>
        </p:blipFill>
        <p:spPr>
          <a:xfrm>
            <a:off x="14400" y="1662120"/>
            <a:ext cx="9115200" cy="3798720"/>
          </a:xfrm>
          <a:prstGeom prst="rect">
            <a:avLst/>
          </a:prstGeom>
          <a:ln w="0">
            <a:noFill/>
          </a:ln>
        </p:spPr>
      </p:pic>
      <p:sp>
        <p:nvSpPr>
          <p:cNvPr id="608" name="文本框 1"/>
          <p:cNvSpPr/>
          <p:nvPr/>
        </p:nvSpPr>
        <p:spPr>
          <a:xfrm>
            <a:off x="1036800" y="5602320"/>
            <a:ext cx="74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添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填写基本信息后，还需佐证材料上传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格式）。下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、奖惩情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内容占位符 4" descr=""/>
          <p:cNvPicPr/>
          <p:nvPr/>
        </p:nvPicPr>
        <p:blipFill>
          <a:blip r:embed="rId1"/>
          <a:stretch/>
        </p:blipFill>
        <p:spPr>
          <a:xfrm>
            <a:off x="12600" y="1477800"/>
            <a:ext cx="8967960" cy="2843280"/>
          </a:xfrm>
          <a:prstGeom prst="rect">
            <a:avLst/>
          </a:prstGeom>
          <a:ln w="0">
            <a:noFill/>
          </a:ln>
        </p:spPr>
      </p:pic>
      <p:sp>
        <p:nvSpPr>
          <p:cNvPr id="612" name="文本框 5"/>
          <p:cNvSpPr/>
          <p:nvPr/>
        </p:nvSpPr>
        <p:spPr>
          <a:xfrm>
            <a:off x="577800" y="4303800"/>
            <a:ext cx="82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奖惩情况如实填写，并上传佐证材料，如没有，则无需填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七、工作经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内容占位符 4" descr=""/>
          <p:cNvPicPr/>
          <p:nvPr/>
        </p:nvPicPr>
        <p:blipFill>
          <a:blip r:embed="rId1"/>
          <a:stretch/>
        </p:blipFill>
        <p:spPr>
          <a:xfrm>
            <a:off x="96840" y="1941480"/>
            <a:ext cx="8589960" cy="1744560"/>
          </a:xfrm>
          <a:prstGeom prst="rect">
            <a:avLst/>
          </a:prstGeom>
          <a:ln w="0">
            <a:noFill/>
          </a:ln>
        </p:spPr>
      </p:pic>
      <p:sp>
        <p:nvSpPr>
          <p:cNvPr id="616" name="文本框 5"/>
          <p:cNvSpPr/>
          <p:nvPr/>
        </p:nvSpPr>
        <p:spPr>
          <a:xfrm>
            <a:off x="779400" y="3927600"/>
            <a:ext cx="73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经历如实填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八、继续教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内容占位符 4" descr=""/>
          <p:cNvPicPr/>
          <p:nvPr/>
        </p:nvPicPr>
        <p:blipFill>
          <a:blip r:embed="rId1"/>
          <a:stretch/>
        </p:blipFill>
        <p:spPr>
          <a:xfrm>
            <a:off x="628560" y="1671480"/>
            <a:ext cx="8021880" cy="1651320"/>
          </a:xfrm>
          <a:prstGeom prst="rect">
            <a:avLst/>
          </a:prstGeom>
          <a:ln w="0">
            <a:noFill/>
          </a:ln>
        </p:spPr>
      </p:pic>
      <p:sp>
        <p:nvSpPr>
          <p:cNvPr id="620" name="文本框 5"/>
          <p:cNvSpPr/>
          <p:nvPr/>
        </p:nvSpPr>
        <p:spPr>
          <a:xfrm>
            <a:off x="898560" y="35863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继续教育分为公共科目合格证汇总表、新任教师上岗培训证明（师发学院提供，仅需编内参加新教师上岗培训教师提供）、区级培训、校本培训，填写基本信息完成佐证材料上传。公共科目合格证门数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参加工作年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+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6:01:27Z</dcterms:created>
  <dc:creator/>
  <dc:description/>
  <dc:language>en-US</dc:language>
  <cp:lastModifiedBy>Administrator</cp:lastModifiedBy>
  <dcterms:modified xsi:type="dcterms:W3CDTF">2022-06-10T01:53:37Z</dcterms:modified>
  <cp:revision>115</cp:revision>
  <dc:subject/>
  <dc:title>职称评审系统使用（申报者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9442953A6D743CBBDF4A05E11CB0D71</vt:lpwstr>
  </property>
  <property fmtid="{D5CDD505-2E9C-101B-9397-08002B2CF9AE}" pid="3" name="KSOProductBuildVer">
    <vt:lpwstr>2052-11.1.0.11411</vt:lpwstr>
  </property>
</Properties>
</file>