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9CA-648B-43DB-8B62-D4E1C4E7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0F6-2CEC-45CE-9928-A476E27A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282-677F-40F9-89FA-363C536F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F6A-EE57-4595-8CA0-E03CF56D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05F-060D-4025-8D3E-CC27041B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156-5BF0-4BB6-A9BA-2F45E518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677-1778-423D-8482-D4BDE903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E81-9B6A-4D3E-8E49-7D6E32D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AE7-2907-4880-8014-0038EB7C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D82-2A23-491F-B1A8-6018991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5F4-58CF-42FA-9E73-D622F0E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4A9-7692-4DCB-BD10-E76E01C4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F9F1-998E-43A5-B84A-52D9F9EF90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9-06-24T07:21:56Z</dcterms:modified>
  <cp:revision>31</cp:revision>
  <dc:subject/>
  <dc:title>幻灯片 1</dc:title>
</cp:coreProperties>
</file>